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EE4-85DD-400C-B422-4D790F24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934-45B2-4223-8807-43999BF8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D9C-6900-4FF8-B48E-AA608B98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564-750D-45AB-B75E-C412436B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EB3-952E-43C5-9B2C-969C51F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18B-E87D-4D70-B1AB-C1F4CDD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6D4-CA38-4ADF-8400-FC2C24B4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1B7-73AC-4D37-91E6-FC0B102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85E-C2E8-44DB-8A5A-4DEFFA0C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B13-18BA-48DF-AC4F-D6F4C4C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A25-7E79-4387-A23F-31903BA6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16B-4E1C-481C-AEB5-A274E4E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4FE-F57D-4875-86D5-6A3E6E88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Around the Pond: Who’s Been Here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m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egg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9. wil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0. gras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1. acros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ad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h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we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sk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Around the Pond: Who’s Been Her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w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of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ound the Pond: Who’s Been Her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19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pp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. din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. blueber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. fol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. bott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240" y="30492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mam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ho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wi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acro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racco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. terrap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7. sh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11-09T22:28:43Z</dcterms:modified>
  <cp:revision>5</cp:revision>
  <dc:subject/>
  <dc:title>The Art Lesson Group A</dc:title>
</cp:coreProperties>
</file>